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11116"/>
        <c:axId val="27260032"/>
      </c:barChart>
      <c:catAx>
        <c:axId val="83411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60032"/>
        <c:crosses val="autoZero"/>
        <c:auto val="1"/>
        <c:lblAlgn val="ctr"/>
        <c:lblOffset val="100"/>
        <c:noMultiLvlLbl val="0"/>
      </c:catAx>
      <c:valAx>
        <c:axId val="27260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11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EE9-7ABE-4564-8725-D2A2A0A7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CF3-7E03-47A2-9599-F6BCF250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428-8315-47FA-826D-C710C15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E0F-C6C9-46B9-BCB8-2E76F3F2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3E3-B234-4023-9016-D69B76E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104-0CFC-42C9-B873-4CC843DA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95A-8F34-46BA-8CC8-7A2DCB59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3F3-6959-451D-B88A-2AAA2464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A85-5514-4B10-A1EF-2E5BE261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CD5-247E-4047-A969-3A14CC69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4B2-5B72-4D5C-B37F-154A64A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598-7599-4548-B100-2F66D379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B9D3C-99CC-4E66-8623-DD7883DE7F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