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98535"/>
        <c:axId val="74633654"/>
      </c:barChart>
      <c:catAx>
        <c:axId val="72498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33654"/>
        <c:crosses val="autoZero"/>
        <c:auto val="1"/>
        <c:lblAlgn val="ctr"/>
        <c:lblOffset val="100"/>
        <c:noMultiLvlLbl val="0"/>
      </c:catAx>
      <c:valAx>
        <c:axId val="746336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98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577-A288-493F-BBF2-9A86282F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3153-F0F3-422E-965F-2F3AFB0B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987-3D8C-4D99-8B1E-9CCDBECD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328-C8CF-4A36-867C-9368BF44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4D9-5594-45AA-BD58-31B21D0B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190-E0E2-4BF4-9C92-9F844B8B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8D5-DF05-459B-831E-9427D078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704C-9899-4DAA-9E51-B8B893DF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716-6A75-4EB8-BDE6-676FF0E2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494-BAC0-4DE6-BF04-C1292989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A68-023C-4D94-9C2A-43A3C432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B3C-4B59-40AD-80DB-EEC14805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09158-59E2-4464-9FF8-AFAC96530F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