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95190"/>
        <c:axId val="31021481"/>
      </c:barChart>
      <c:catAx>
        <c:axId val="80695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1481"/>
        <c:crosses val="autoZero"/>
        <c:auto val="1"/>
        <c:lblAlgn val="ctr"/>
        <c:lblOffset val="100"/>
        <c:noMultiLvlLbl val="0"/>
      </c:catAx>
      <c:valAx>
        <c:axId val="31021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5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E8C-72D7-4B30-99AF-F7C48C8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8D9-6491-4B35-87AB-CA05C23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707-D571-4E0E-9176-C59335A4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718-F5B8-45FE-94E9-F5CD8BBD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440-472E-49ED-AD3E-5E26BD51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5A5-7390-4ED0-9265-D0438F5A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2A4-8100-47D9-B60D-C982D77B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7D9-8566-4C70-B7E1-F308D87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0AB-CB9E-4462-8FF2-2EC4326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8AF-5677-4391-9350-D44ECA8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4F3-AFB3-4C35-A2E3-F1A813B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3B1-D777-43F6-B9DD-8D36331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124E-C801-4E6F-B585-5C38C5DD7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