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86667"/>
        <c:axId val="34663153"/>
      </c:barChart>
      <c:catAx>
        <c:axId val="20386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63153"/>
        <c:crosses val="autoZero"/>
        <c:auto val="1"/>
        <c:lblAlgn val="ctr"/>
        <c:lblOffset val="100"/>
        <c:noMultiLvlLbl val="0"/>
      </c:catAx>
      <c:valAx>
        <c:axId val="346631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86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B852-2737-434B-8B94-E0BE41A0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F4EC-E958-4BF4-9EF4-AD33D22A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354-4B73-4894-93C6-F5D44853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A09-5EA0-49A5-99E8-C7F445D9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69B-FB51-4AE0-96B9-60359746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F58-3522-4A25-A056-00109354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FEA-47BF-466E-BC62-B3D15959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B72-4F66-426F-BDC3-60B85EAE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CE4-6052-40F2-99C5-86BFB9F6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DB8-18E7-4368-A618-0A8DB103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E22-7F5C-4E04-BD8B-B06071FC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ACB-BC20-4987-8538-4F433F20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DFCF4-AC70-48E7-9D22-03562FF280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