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29945"/>
        <c:axId val="53417876"/>
      </c:barChart>
      <c:catAx>
        <c:axId val="16429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7876"/>
        <c:crosses val="autoZero"/>
        <c:auto val="1"/>
        <c:lblAlgn val="ctr"/>
        <c:lblOffset val="100"/>
        <c:noMultiLvlLbl val="0"/>
      </c:catAx>
      <c:valAx>
        <c:axId val="53417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29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E41-0051-4A77-8C86-74DA9BA5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537-2CE0-4A5E-BC44-A7B69974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660-C54D-47A8-AF71-78CE15A5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10D-58A6-4E52-945B-0D0497BC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BED-72DA-45EA-A4EE-8902E364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736-B472-44EE-9AC0-797A03DA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0ED-350D-48D3-879F-570B9400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08E-4E3A-4506-BC0C-8277D085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D6B-083B-463C-8F18-34DB6D1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912-7474-4B58-9B3A-90C14564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1DE-2393-4DAF-B26C-D324550F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D57-2EDC-4E1B-81F9-3CAB5F9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D7A46-927A-4D55-AAB2-349CCA6877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