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92944"/>
        <c:axId val="8873340"/>
      </c:barChart>
      <c:catAx>
        <c:axId val="25092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3340"/>
        <c:crosses val="autoZero"/>
        <c:auto val="1"/>
        <c:lblAlgn val="ctr"/>
        <c:lblOffset val="100"/>
        <c:noMultiLvlLbl val="0"/>
      </c:catAx>
      <c:valAx>
        <c:axId val="8873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92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F85-0A2C-46AB-8CB4-4D023A56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4EC-C440-4FE1-A298-43BFA775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489-423E-4826-A59C-2416745B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234-2043-4425-B1FD-EFD369B3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6ED-9CB3-4011-A5A9-3924AA81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328-BF5D-401E-A31F-CE412A60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D23-1AB4-417D-BDC5-408A231F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18F-23E5-4684-8358-5F223E21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2EC-36EA-40EB-BDDC-C2613A00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5E8-56D7-4024-9D23-9D61F636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1D9-FBD4-4F77-89DF-F8F6E6CE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F64-61D9-4E31-AAB3-E5C34061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B4D7C-71C8-4985-B20F-8797EF87E1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