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76213"/>
        <c:axId val="8756510"/>
      </c:barChart>
      <c:catAx>
        <c:axId val="37276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6510"/>
        <c:crosses val="autoZero"/>
        <c:auto val="1"/>
        <c:lblAlgn val="ctr"/>
        <c:lblOffset val="100"/>
        <c:noMultiLvlLbl val="0"/>
      </c:catAx>
      <c:valAx>
        <c:axId val="8756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76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4BE-3BC7-4AA1-BF3A-F9AF1247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E67-227D-4154-B795-C3BB06C5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D9D-F5FA-46F9-8CE5-41EC5A9E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DAD-5C31-4A65-B35C-8105F34C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1C2-25ED-4AB8-9A9E-E225BE81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936-97DD-4E3F-90BE-D8E12870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7B2-2387-4CF0-9F96-7977048B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7E7-1DD2-4A0B-8A7E-2D3734AE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819-9A07-4524-8141-DC149A41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7AC-FA13-4B0F-8DD1-A46728B3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A44-C526-4DB8-A47D-AD70E6FE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043-AABF-436D-8BA3-E8808D33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4D557-EE31-4878-A15F-382BBA661B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