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49326"/>
        <c:axId val="13108070"/>
      </c:barChart>
      <c:catAx>
        <c:axId val="21949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8070"/>
        <c:crosses val="autoZero"/>
        <c:auto val="1"/>
        <c:lblAlgn val="ctr"/>
        <c:lblOffset val="100"/>
        <c:noMultiLvlLbl val="0"/>
      </c:catAx>
      <c:valAx>
        <c:axId val="13108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9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30F-E863-4903-AADD-14D89AEC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3F7-1A64-4B8A-A627-07EFE31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DFA-6CB3-4BF4-ABC3-F650C239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932-8948-49BC-9F8D-590C23D5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71E-67A0-44A0-90E6-40346C0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C29-FD1C-4DB6-9CC2-F318D7C9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CC1-17D9-4D66-B43B-CBEA79B3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128-C343-477D-B96C-9144E1B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CC9-2FD0-4FC1-9215-0FB06BE9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C02-5545-4886-8771-159D3EA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259-AE8E-4D60-B441-5A4B12A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2D5-CF00-4FAB-89E8-7F0267C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D30B8-C7C9-4223-8F65-A5C04A002A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