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03571"/>
        <c:axId val="49341816"/>
      </c:barChart>
      <c:catAx>
        <c:axId val="18903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1816"/>
        <c:crosses val="autoZero"/>
        <c:auto val="1"/>
        <c:lblAlgn val="ctr"/>
        <c:lblOffset val="100"/>
        <c:noMultiLvlLbl val="0"/>
      </c:catAx>
      <c:valAx>
        <c:axId val="49341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3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B11-CDF5-46BF-8200-AAD36E87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E5D-9694-4B89-8098-2E07289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A9A-2BC0-42C9-AB4A-B1B371F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384-C862-4E11-B9EE-9E73B2CD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CB7-2D56-41FE-B770-078E6C3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2A7-C1A5-4D15-8FFF-F4DB65B4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B11-F7A0-44BB-A285-1ADCE02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FFA-B4F6-4729-B163-800443B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52C-30E6-40DD-A56E-DA206B9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1BE-0D96-49FE-B3D4-EACFD69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4D3-71AC-425E-BB00-436B5DA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AAC-591B-41FF-BDE9-290AF3C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DC7E9-A395-49D2-80BD-D8F2D9E63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