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43479"/>
        <c:axId val="99019067"/>
      </c:barChart>
      <c:catAx>
        <c:axId val="62743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19067"/>
        <c:crosses val="autoZero"/>
        <c:auto val="1"/>
        <c:lblAlgn val="ctr"/>
        <c:lblOffset val="100"/>
        <c:noMultiLvlLbl val="0"/>
      </c:catAx>
      <c:valAx>
        <c:axId val="99019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43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E9B-4993-4670-87DF-225876C3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EC5-7B0C-41D9-82FF-5D3B7EA0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897-4150-414C-AE64-44F2F3C5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914-4780-40A5-ABF0-286D7AF9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88D-1983-4317-BA57-52DB8406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568-5EC8-4209-9C0A-3AD48583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E82-CFB3-4CE8-8645-599A817D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3D1-56FD-438A-9328-E16CECBA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0F6-1BD5-48C2-A6EE-6C29C7D2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272-BE09-422F-8290-C27EEAE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C77-56E1-40DB-A9FD-D596033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BBD-6110-413D-AE0C-5CF212C2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2A58D-3125-41E8-99D6-5914420229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