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01412"/>
        <c:axId val="29131762"/>
      </c:barChart>
      <c:catAx>
        <c:axId val="96014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131762"/>
        <c:crosses val="autoZero"/>
        <c:auto val="1"/>
        <c:lblAlgn val="ctr"/>
        <c:lblOffset val="100"/>
        <c:noMultiLvlLbl val="0"/>
      </c:catAx>
      <c:valAx>
        <c:axId val="291317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014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BF42-21CA-4C62-A97F-9AF7547CF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36ED-50AE-4A74-8371-12B57D738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AE14-D367-4239-B536-A2E750B86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F1C4-FAD7-4141-B038-6EF20ABAE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6320-CE9F-4F33-9BE4-9C34C1659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1E62-F770-498F-9C3F-4B7A682F0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90A4-BFC7-48D2-91C8-EA1276A5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FD71-EF51-42AB-BB19-43DE47CB6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5238-C4DC-46A2-8B09-75159F84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0A0E-73D9-4895-A9CF-D29775B6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8E46-E83C-4634-8231-F6D43086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43FC-EF6F-4BDC-98ED-9573D36A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F8AC76-35AF-44A4-9C40-155B9A348EB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