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938645"/>
        <c:axId val="24153892"/>
      </c:barChart>
      <c:catAx>
        <c:axId val="609386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53892"/>
        <c:crosses val="autoZero"/>
        <c:auto val="1"/>
        <c:lblAlgn val="ctr"/>
        <c:lblOffset val="100"/>
        <c:noMultiLvlLbl val="0"/>
      </c:catAx>
      <c:valAx>
        <c:axId val="241538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386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9E7B-2ED2-492D-B26D-0F92ADCE3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592A-FB62-4D65-A793-190105CB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25B5-7E5D-44D8-8831-2DD2DBD6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DD9C-017E-4936-A300-87264221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595F-107F-467F-A74F-44035A38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E783-6EFD-4F43-B3FE-B824F8DD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6763-E876-4E9B-AC64-78C025EE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32B7-0030-4059-98B7-3E29870E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BFF5-4D9C-42CE-84AD-4E1D5220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9249-576C-4290-95DD-67E2E6E5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A6A0-E9CC-4853-A4DB-67863332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B996-4FDC-44AE-9475-2785F888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DAB39-3DE1-439C-A6BA-1D10D00BDE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