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990845"/>
        <c:axId val="46945972"/>
      </c:barChart>
      <c:catAx>
        <c:axId val="299908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945972"/>
        <c:crosses val="autoZero"/>
        <c:auto val="1"/>
        <c:lblAlgn val="ctr"/>
        <c:lblOffset val="100"/>
        <c:noMultiLvlLbl val="0"/>
      </c:catAx>
      <c:valAx>
        <c:axId val="469459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9908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50CB-7DEB-46FA-B188-C04129E82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4CD0-EA3F-4E1A-BCBE-84E26A1D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F601-BF29-46B7-A58C-45620E5BF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9801-C604-4E5F-B8F5-ACB6D7840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08D1-119D-4DE7-8361-AB762B7F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76D5-4E1A-414E-B833-9F4A32DD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25BA-72F7-4E2E-8F71-49FE500C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5AB7-B102-4B37-8013-EDE983A5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1289-0EFF-4B1A-9CE9-43AC54E3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B2D5-3B0A-4C4D-9CAA-0DB8C76D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6FE7-0F2F-42A7-A01F-18E33ECD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8939-ABA6-4753-90EE-3C78C2A8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35E21C-03C2-41D2-A305-605F9A1374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