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25971"/>
        <c:axId val="81667909"/>
      </c:barChart>
      <c:catAx>
        <c:axId val="26025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7909"/>
        <c:crosses val="autoZero"/>
        <c:auto val="1"/>
        <c:lblAlgn val="ctr"/>
        <c:lblOffset val="100"/>
        <c:noMultiLvlLbl val="0"/>
      </c:catAx>
      <c:valAx>
        <c:axId val="81667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5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63E-FC7A-41A5-A4F8-1D2A524C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B3C-16A3-4682-B4A0-76B5062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1A6-1B4F-4E00-B57B-3EFF08F5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006-489A-4CAB-984D-5BCA8E67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134-323A-410D-8BC5-8D950CC4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81C-10F2-4179-8975-89E1F06D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E05-3097-4B4B-B51A-1CC7A7EF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E95-AB5A-464E-8DAB-03CB6C98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65A-9FD4-42A2-B522-36C01D45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CD6-DDFD-48A3-A36F-DB5CF28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64C-0544-40EC-9092-101A9C5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8D4-D40D-45E7-9F40-27B2773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5404-6D15-447B-84D5-C713B6573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