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64358"/>
        <c:axId val="83155087"/>
      </c:barChart>
      <c:catAx>
        <c:axId val="40464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55087"/>
        <c:crosses val="autoZero"/>
        <c:auto val="1"/>
        <c:lblAlgn val="ctr"/>
        <c:lblOffset val="100"/>
        <c:noMultiLvlLbl val="0"/>
      </c:catAx>
      <c:valAx>
        <c:axId val="83155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64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AFE-23FC-45DF-8D0A-31F4EEB9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5E5-8C0D-409D-88C4-3E81DDC1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2EB-228F-4166-BEDE-B0A6783F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2D5-B566-4014-9F10-ACB930D1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916-2BCD-457D-BC96-26BB89C8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EA9-2B62-47BA-95FD-9BCE0F53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784-89C2-4FCA-8213-1324094B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57A-CC38-4EAB-84F5-069C8D56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14F-10C4-4741-B480-860BE169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134-17EF-4907-B430-F6ADEADA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B27-C15A-4754-827A-2895F4E5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6C1-DAB5-464A-B5A1-E340853D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32DEA-1421-4320-A617-C89A7D45B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