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76695"/>
        <c:axId val="59157939"/>
      </c:barChart>
      <c:catAx>
        <c:axId val="52976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57939"/>
        <c:crosses val="autoZero"/>
        <c:auto val="1"/>
        <c:lblAlgn val="ctr"/>
        <c:lblOffset val="100"/>
        <c:noMultiLvlLbl val="0"/>
      </c:catAx>
      <c:valAx>
        <c:axId val="59157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76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3A5-E308-4B04-B4B3-2BCF5064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B23-3677-4283-9E9D-C8AE7D6A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B84-620F-4022-AB69-8B18E86E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E56-5F41-49BC-8384-12A53423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43B-D671-4DD8-A43A-A1B245B7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8D2-6345-4948-906A-BF25AE3D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BC5-0803-4C73-AF8F-9166093E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AD9-82BD-4D55-8F78-4564373D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1ED-E876-477B-89F2-D8CB66B0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6C1-8A3E-4DBE-B8E9-6D4545AA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B2E-2862-444B-99A1-03AB6C5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ACA-B138-413B-8DD0-9B7FEFDF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A21D3-680B-4F01-9324-FFC4050F36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