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72589"/>
        <c:axId val="71932489"/>
      </c:barChart>
      <c:catAx>
        <c:axId val="19772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32489"/>
        <c:crosses val="autoZero"/>
        <c:auto val="1"/>
        <c:lblAlgn val="ctr"/>
        <c:lblOffset val="100"/>
        <c:noMultiLvlLbl val="0"/>
      </c:catAx>
      <c:valAx>
        <c:axId val="71932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72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231-D223-47AD-A9D6-BB70061E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303-AD2A-4488-9015-337F7BF8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95E-CC27-4616-850D-CFECA9D3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108-EFDE-47AD-9151-60858587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4B4-3CA1-425D-A4F5-D60E5A8B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E9A-72A8-41F1-B389-F3BDC940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FAD-03C9-4692-88A6-4CE76DF9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965-0D0A-40B9-AC2B-DD087A5C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F2C-5A46-42BB-BF41-2B2C4A2C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0B2-E737-448F-927A-568B6DE4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D74-39C2-433E-A89A-2F4C8EC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F33-6784-4C3A-A7BA-C7ADD9CE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8159E-ECEC-418A-9B5A-8EB6FD7B7E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