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95133"/>
        <c:axId val="59959645"/>
      </c:barChart>
      <c:catAx>
        <c:axId val="31195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59645"/>
        <c:crosses val="autoZero"/>
        <c:auto val="1"/>
        <c:lblAlgn val="ctr"/>
        <c:lblOffset val="100"/>
        <c:noMultiLvlLbl val="0"/>
      </c:catAx>
      <c:valAx>
        <c:axId val="59959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95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0BE-F714-41B3-9DA8-7CB82F68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9DD-9421-46B5-9236-109889D9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ADC-1594-40F9-8238-E4FA91B0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4F4-2150-4A2A-BC39-4591E858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38A-C8DA-4406-A81F-A9FFB4E5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81A-25BA-49CD-9FAC-EFC45086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EDB-ABB0-4BB5-B162-6F63DC17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12C-CD40-4C41-A90C-629030D2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A7F-08FA-4AA7-88F9-C479B31B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4BC-2AC2-4B52-BADD-ACED2C93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F51-9AA3-4CBC-9194-6D26A94F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7B0-EBD7-4A97-8A18-E778FA5D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48D1C-ABB8-45D6-A68B-3E2B5C9E5D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