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75685"/>
        <c:axId val="62013457"/>
      </c:barChart>
      <c:catAx>
        <c:axId val="64775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3457"/>
        <c:crosses val="autoZero"/>
        <c:auto val="1"/>
        <c:lblAlgn val="ctr"/>
        <c:lblOffset val="100"/>
        <c:noMultiLvlLbl val="0"/>
      </c:catAx>
      <c:valAx>
        <c:axId val="62013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5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9C4-DA59-4A45-A9B6-9745F389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838-335D-49B9-8281-1F34972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66C-B6DE-4A95-BB45-BA043F2D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D11-E4EC-449F-8B90-697D06AF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05C-FF78-4712-BAA8-573AA56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02B-DAB9-4FDE-B919-4642D66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603-2F62-482E-B65D-AE06C5C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E7B-AE8F-476D-BF4B-DCABD5D8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DF9-BB57-4DB8-8A41-67DE9E3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6B-E435-40EF-BA62-ABF58E4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3C3-C503-477F-B1B3-ACAC611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2BD-6120-4186-90D2-51D860C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5E741-98AF-44B4-88A5-28D6FF72E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