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06384"/>
        <c:axId val="9379263"/>
      </c:barChart>
      <c:catAx>
        <c:axId val="447063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9263"/>
        <c:crosses val="autoZero"/>
        <c:auto val="1"/>
        <c:lblAlgn val="ctr"/>
        <c:lblOffset val="100"/>
        <c:noMultiLvlLbl val="0"/>
      </c:catAx>
      <c:valAx>
        <c:axId val="9379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063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3648-D275-46FE-9525-8F205765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A13D-B70C-4F86-9474-4A792686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082-BB44-4907-B7EC-55C0FFCD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22D-9258-4393-9804-DCF51795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A1C-2F64-44A1-8DB2-7E1BC1D1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5C8A-02B7-4B67-8F31-351CD106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9A3-8647-4AEA-953C-50E64559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4983-BD5A-40B8-8C6B-568E295D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9AF-F979-4FF0-BD10-520D5D44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FE9-0ED7-484C-8C20-9376580B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5DA-65F9-405E-B38D-D070240A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DD0-FC60-49B3-AE06-08B5CC6E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580D3-50B3-4B53-86F3-617C176161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