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58641"/>
        <c:axId val="58943674"/>
      </c:barChart>
      <c:catAx>
        <c:axId val="441586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43674"/>
        <c:crosses val="autoZero"/>
        <c:auto val="1"/>
        <c:lblAlgn val="ctr"/>
        <c:lblOffset val="100"/>
        <c:noMultiLvlLbl val="0"/>
      </c:catAx>
      <c:valAx>
        <c:axId val="58943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586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3F4-DA33-4DF4-964E-422DAC33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F4E-CA10-47A4-9946-19DC4E33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29B-2EF3-4859-84BB-F0E0EC9F0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749B-0DA6-4584-85A0-427B90F9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D00-B23B-416E-B786-A2F77170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F5AD-AE69-4DC0-B8C9-7381309A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865C-0B5D-454A-967C-A49B7BE0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5E0-0246-4C10-96C2-4E953D99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E85-9FEA-4237-BA79-DFC0284C8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B56A-B736-4EDE-9A07-81CCE2EA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E367-B064-40CD-8D82-FABF02DE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9E41-78CC-4339-B22D-DB1F76AA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07770-752D-417F-83EE-313E978674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