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18621"/>
        <c:axId val="89826872"/>
      </c:barChart>
      <c:catAx>
        <c:axId val="16618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26872"/>
        <c:crosses val="autoZero"/>
        <c:auto val="1"/>
        <c:lblAlgn val="ctr"/>
        <c:lblOffset val="100"/>
        <c:noMultiLvlLbl val="0"/>
      </c:catAx>
      <c:valAx>
        <c:axId val="89826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18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2DD-BE68-4755-BAB7-DFF1FB92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9B9-8064-4607-A08F-E876F945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61A-A792-4084-A732-C0D31911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694-AE01-4167-9C03-F982B63D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D2B-83BA-41E5-9EEF-0C8C5CDD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0D7-3284-479E-B4EF-4F1511F0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638-4187-449E-9729-090D46B0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FB9-4313-4E9F-BB17-694F686C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920-290D-4021-86A8-6C78ADE2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C0C-EA87-46EA-AE15-CF9419BE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C46-C9E4-41F0-8DE7-F4A954F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AC1-45E8-44E6-AD8C-4EC147E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7ACC8-4B89-4C29-8B16-DCE2483D8B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