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60678"/>
        <c:axId val="99060178"/>
      </c:barChart>
      <c:catAx>
        <c:axId val="33260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60178"/>
        <c:crosses val="autoZero"/>
        <c:auto val="1"/>
        <c:lblAlgn val="ctr"/>
        <c:lblOffset val="100"/>
        <c:noMultiLvlLbl val="0"/>
      </c:catAx>
      <c:valAx>
        <c:axId val="99060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60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AEA-91EC-4833-97AE-FB5B8BBA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73F-DFAC-4091-A223-58F7596D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C93-3B76-4623-9396-D35CD432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353-249B-4C38-B7A2-424E7A32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0D88-5F30-44F9-80BE-5E8259CB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49B-0C45-4CDF-A255-9D0A196B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E85-7ADB-4E60-8C77-8F7F4834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7C0-F4DF-4C90-A216-85EF87CB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9E34-891C-47E5-861B-6BCA4236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476-B425-413E-97A6-02EC4088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9EC-F52A-4932-B85A-A1F56B9B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115-CE2C-4047-BE1D-8A8B6638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371B2-D7FE-4A7B-B43C-305B9420BB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