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782501"/>
        <c:axId val="62274641"/>
      </c:barChart>
      <c:catAx>
        <c:axId val="357825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74641"/>
        <c:crosses val="autoZero"/>
        <c:auto val="1"/>
        <c:lblAlgn val="ctr"/>
        <c:lblOffset val="100"/>
        <c:noMultiLvlLbl val="0"/>
      </c:catAx>
      <c:valAx>
        <c:axId val="622746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7825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C252-D4CE-417D-BC58-6F02A7B67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039D-F38E-488C-9F03-C1987A8B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D0E0-8CBE-46A0-B6F0-85FAAD95A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EDD7-7DF1-433D-B441-622B804E8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61FC-6702-4F6E-9B88-2C068C3C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1391-67AE-4700-8172-92AA4DA9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B41D-C46A-47AF-B3F3-655E955D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B554-DDF2-4D5D-A48A-0393CAD7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CE57-553F-4158-9332-53581529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779B-D509-4EC5-AA50-28C0988A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2419-AD6B-49B0-8ECA-3F5F1657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D5CC-E26C-47F7-9D1D-DB7B02EB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B05AA-2806-42C6-85B2-99F8074F4D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