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31818"/>
        <c:axId val="78808102"/>
      </c:barChart>
      <c:catAx>
        <c:axId val="62631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08102"/>
        <c:crosses val="autoZero"/>
        <c:auto val="1"/>
        <c:lblAlgn val="ctr"/>
        <c:lblOffset val="100"/>
        <c:noMultiLvlLbl val="0"/>
      </c:catAx>
      <c:valAx>
        <c:axId val="78808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31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0A26-6160-46F6-9C7D-71340334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9FE-3E66-4B73-A2C4-6FF15967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881-2E90-4108-854E-0D12639F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4C1-E102-47EC-99EF-C6990EAF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91C-EDE9-4045-93A0-6702FAC3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5DB5-EED6-482E-A73B-71538894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15EE-9EA2-4DFF-8451-03F59399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D0F-1811-4731-AE4B-A170A16A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2898-7902-4A38-A77C-C41AE884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345B-B578-408A-86EA-00A69D40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119-1694-4EC7-8389-BC6986B0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048-5400-4AE2-896C-510CD189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C6CAA-0859-453F-B10E-6DA24A50E3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