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1380"/>
        <c:axId val="99973844"/>
      </c:barChart>
      <c:catAx>
        <c:axId val="7401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73844"/>
        <c:crosses val="autoZero"/>
        <c:auto val="1"/>
        <c:lblAlgn val="ctr"/>
        <c:lblOffset val="100"/>
        <c:noMultiLvlLbl val="0"/>
      </c:catAx>
      <c:valAx>
        <c:axId val="99973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1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F63-CBE6-4CCE-9D86-B5C2587B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FD9-DB71-4CF7-B28C-1A11676F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B69-BA1C-41C7-9146-B12493DE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873-B432-448D-90E7-8D8F8F1A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783-3A61-472D-9D46-31E8EFEF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1ED3-AF9F-41EB-8381-1EED5994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A673-7474-4ED1-9BC8-DB89C450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3CD-AC0C-4FEC-A3B8-F1CA7487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758-2F20-4FBB-8113-F9A45D30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15AE-2597-4F27-A628-E01029BA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583-E917-4FA6-871C-09CA0E59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D7D-63FD-469A-A35D-CA5618CE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48E1A-B57D-4D02-859B-AFCFA878DA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