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66811"/>
        <c:axId val="20561394"/>
      </c:barChart>
      <c:catAx>
        <c:axId val="43966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1394"/>
        <c:crosses val="autoZero"/>
        <c:auto val="1"/>
        <c:lblAlgn val="ctr"/>
        <c:lblOffset val="100"/>
        <c:noMultiLvlLbl val="0"/>
      </c:catAx>
      <c:valAx>
        <c:axId val="20561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6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50E-8C15-460E-8A5A-AB93BD40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AEA-33DF-4BC9-8173-1470CE2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54A-ECF2-44DA-BD2F-544F0CAC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970-AF44-4A41-A2D9-33D412DF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DED-0972-497C-8D51-B59F747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7F5-1BF1-41AB-970E-E98C5CD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4D7-129A-43D7-B507-654FEEA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607-E55D-4844-AE05-52D443C3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AD1-ED99-482D-8BD6-FC0CCC7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D4F-717F-45E5-B166-01229E4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486-DA05-4435-ADC1-A03FFEF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B1D-A6C0-4A26-BF84-0B5B2A0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5F9B-3AE2-492E-9351-5C89FADFF6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