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53155"/>
        <c:axId val="75153163"/>
      </c:barChart>
      <c:catAx>
        <c:axId val="8853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53163"/>
        <c:crosses val="autoZero"/>
        <c:auto val="1"/>
        <c:lblAlgn val="ctr"/>
        <c:lblOffset val="100"/>
        <c:noMultiLvlLbl val="0"/>
      </c:catAx>
      <c:valAx>
        <c:axId val="751531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3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0FE-DAB5-4467-8986-D1103E90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69C-A858-4B56-8C3C-62EA1129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BF90-E056-402B-98E4-DAF917E5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364-AA34-429F-9B64-16DBEA3F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ACBC-F41A-44F2-8188-2A164B89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83C-9505-40E8-96B2-89CDE706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A9A-3A2E-4E45-8BA2-AD379773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2DCD-EF28-4AC0-910C-83AB2DCE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1E76-6CAE-4086-B5C1-5153CA87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F82-8A07-45AD-9C5F-7A6B729C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969-8462-4B03-A061-67A27E26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1620-22A2-4CDA-9D7D-B2567B6A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F3B91-D8F1-49A3-A209-C0B7DDE480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