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40991"/>
        <c:axId val="47627284"/>
      </c:barChart>
      <c:catAx>
        <c:axId val="87540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27284"/>
        <c:crosses val="autoZero"/>
        <c:auto val="1"/>
        <c:lblAlgn val="ctr"/>
        <c:lblOffset val="100"/>
        <c:noMultiLvlLbl val="0"/>
      </c:catAx>
      <c:valAx>
        <c:axId val="47627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40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073-6B28-4D35-BF64-A651FD63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2F6-420C-48C6-9CA6-E7AC7316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AD7-00EC-4451-A062-E427A059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4B6-2711-4111-94FC-CA137000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74D-69FD-4390-95B6-366BF5FE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CEF-72E9-4CFF-8135-1815ABE0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CF3-E633-4375-BDB9-B9FAC58A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AA5-061E-4757-8336-468C85EB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811-CB52-4B4B-9DC1-093FA45B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256-AB08-4144-A685-DB556C67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E09-55EB-4DDE-BBB9-99929312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0EE-2AE3-4B1C-94F3-D785F02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8D420-489D-40C7-B85E-9416258519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