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093248"/>
        <c:axId val="65179995"/>
      </c:barChart>
      <c:catAx>
        <c:axId val="370932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179995"/>
        <c:crosses val="autoZero"/>
        <c:auto val="1"/>
        <c:lblAlgn val="ctr"/>
        <c:lblOffset val="100"/>
        <c:noMultiLvlLbl val="0"/>
      </c:catAx>
      <c:valAx>
        <c:axId val="651799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0932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6504-2C36-4CA7-82E8-AC74AB694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1CE0-1791-4904-8BE5-037999517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466F-B6AD-4ACD-96C8-2C60EEB74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2BD4-57F1-49D4-97FB-B7CF5B104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1B8C-73E8-45AE-B110-7952DDC87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90AC-FEA6-4AE7-A9D0-C1B4F5E0C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535E-0791-4721-9752-5F92FB15D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59C5-A321-4172-8828-1FAC3AE76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8C95-6BE3-424C-83B1-8A2F4E53C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8A75-90C9-40C9-9AD7-F9A8B3CC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409A-9637-4C83-ACF6-6CAA2385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2874-C346-4AD4-9341-2D9EB6FD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4B2921-1112-407A-8213-73D0123DD13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