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85131"/>
        <c:axId val="70873757"/>
      </c:barChart>
      <c:catAx>
        <c:axId val="55885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3757"/>
        <c:crosses val="autoZero"/>
        <c:auto val="1"/>
        <c:lblAlgn val="ctr"/>
        <c:lblOffset val="100"/>
        <c:noMultiLvlLbl val="0"/>
      </c:catAx>
      <c:valAx>
        <c:axId val="70873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85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5B8-4D55-407D-ADEA-B18B6BD7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F38-EA31-43D6-97FF-C77FD78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3DF-0318-422A-B7EA-13B13A54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C17-0AC4-4672-95C5-02BB5BBA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614-5C39-4F12-BACC-BA4EDA0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B9E-63D9-49D3-8423-839CF3A6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69E-DC18-43CF-859A-B2F5B6D7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8AB-BD16-4DAB-B4F4-7D53D907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016-7577-469B-86E9-7462B07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E42-88A0-46BD-9053-5602E95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C98-C14F-4433-AA60-BAA93AA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07E-C514-44F2-B200-D2D1A9D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4DD3-963A-4464-868A-827D24502F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