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08015"/>
        <c:axId val="19469006"/>
      </c:barChart>
      <c:catAx>
        <c:axId val="49608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69006"/>
        <c:crosses val="autoZero"/>
        <c:auto val="1"/>
        <c:lblAlgn val="ctr"/>
        <c:lblOffset val="100"/>
        <c:noMultiLvlLbl val="0"/>
      </c:catAx>
      <c:valAx>
        <c:axId val="19469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08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EE8-F441-4267-9ABD-AE9E7473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536-78D7-4165-87D4-88204F3A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881-F395-4301-8DC0-3B9A0016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A70-7E63-4047-9591-92A1C031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23F-7C26-4F67-B5C0-5377AE7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20D-FA64-4D21-909D-013A28E5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86E-C928-44D5-A710-86715C09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765-3B0D-444F-B357-1C14469C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6B6-66DD-4487-89BA-93258BAA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2B9-6CA7-4E73-9928-54EE54DE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39E-2A5A-4C25-B37F-E531126E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921-FE4A-4BA1-B713-16DCC797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2DE01-97EE-49D3-8E30-DEFFBA1AB6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