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538562"/>
        <c:axId val="80583873"/>
      </c:barChart>
      <c:catAx>
        <c:axId val="775385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83873"/>
        <c:crosses val="autoZero"/>
        <c:auto val="1"/>
        <c:lblAlgn val="ctr"/>
        <c:lblOffset val="100"/>
        <c:noMultiLvlLbl val="0"/>
      </c:catAx>
      <c:valAx>
        <c:axId val="80583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385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2AD0-A7C4-4428-8CE4-893E646F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4321-9F71-40DF-AB87-F0249EE0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4A7-1C98-4D97-98BE-85527563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895-FCCA-4E65-B8B7-42CA76B0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968C-EE99-4935-8B5D-200942C0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7F2B-D6E7-40C9-BD63-6605F223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375-9071-430A-897C-0CEFB789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990-2266-408D-BE58-6B5E1CCC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63F-D49D-4C2A-B0A9-05F8DF85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0AA-51BA-407B-A62A-4A4D563D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53E2-908C-4BDC-A7DB-CBB76A21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286-D20C-4B9E-80B0-05C48184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6C1F6-92D2-4C0A-A6C4-2E05113643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