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46012"/>
        <c:axId val="74537419"/>
      </c:barChart>
      <c:catAx>
        <c:axId val="93146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37419"/>
        <c:crosses val="autoZero"/>
        <c:auto val="1"/>
        <c:lblAlgn val="ctr"/>
        <c:lblOffset val="100"/>
        <c:noMultiLvlLbl val="0"/>
      </c:catAx>
      <c:valAx>
        <c:axId val="74537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6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1E9-52AD-4447-944E-958CAE7E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795-78D5-4A91-94B7-BA24B4FF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945-0989-4C3D-9181-1D5A8B67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851-4DA3-459D-BF14-B4844686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A72-2BEC-4DCB-B7DF-465D53D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E71-C079-46A9-B5ED-ACEE783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9DA-1761-40B6-B0B0-6AC5B84A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E50-2F12-4F99-B5DD-48DDD587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BA3-4208-4BD1-843B-153FE7E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7BB-745C-410C-B8EE-2A57117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79C-D14F-4898-99D1-FA71634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BC1-5B89-4CDE-BBB6-939D84A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4DBD3-FA05-4F70-B869-097D31B7A7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