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28428"/>
        <c:axId val="9408091"/>
      </c:barChart>
      <c:catAx>
        <c:axId val="55728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8091"/>
        <c:crosses val="autoZero"/>
        <c:auto val="1"/>
        <c:lblAlgn val="ctr"/>
        <c:lblOffset val="100"/>
        <c:noMultiLvlLbl val="0"/>
      </c:catAx>
      <c:valAx>
        <c:axId val="9408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28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4897-D70D-44C4-BA8A-FE3C8F25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B88-C250-46B3-97F4-9629A604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0AF-FF7C-49DF-B6CD-2D1F0F8C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CD7-074D-4EF9-A179-B6F62F66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C5D-EA64-43D6-81DB-8C5FAAF6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C92-93EA-4CA2-BAC8-3699A047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B0C-B5E3-4014-8FC5-F9D917FF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6E0-D61C-4BED-AEDE-1687171D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257-8928-44C4-A87E-C5B69DBD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1CD-C791-47C5-8906-DC510E7F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A2B-E912-4897-BA28-BF6C48B3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7A9-53F6-418E-B7DD-498E2663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11865-67B9-41A6-8A15-D84F430609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