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79043"/>
        <c:axId val="42456538"/>
      </c:barChart>
      <c:catAx>
        <c:axId val="65079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56538"/>
        <c:crosses val="autoZero"/>
        <c:auto val="1"/>
        <c:lblAlgn val="ctr"/>
        <c:lblOffset val="100"/>
        <c:noMultiLvlLbl val="0"/>
      </c:catAx>
      <c:valAx>
        <c:axId val="42456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9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414-38F1-49AF-B2B9-70889F23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6AC-7529-4F57-B54B-0E8E130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407-D601-4F49-BC89-8E60F11C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19C-C330-4865-9015-17B62A60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5D8-7CC8-44CB-A858-4BACA9C5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39D-6167-4E27-BE01-4214BADB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62B-C99D-48BB-8C34-3B67668A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0EE-9FFB-40AC-9A85-18A1944E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AC5-3F14-4026-AA24-6A52FA2C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24A-9225-4F71-931F-0696AB5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39A-D7E3-4B6D-9C51-1CA2A77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EA3-1A76-449A-A010-372908D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BE210-2E53-4970-B2B7-4A0F15195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