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16200"/>
        <c:axId val="3547382"/>
      </c:barChart>
      <c:catAx>
        <c:axId val="39616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7382"/>
        <c:crosses val="autoZero"/>
        <c:auto val="1"/>
        <c:lblAlgn val="ctr"/>
        <c:lblOffset val="100"/>
        <c:noMultiLvlLbl val="0"/>
      </c:catAx>
      <c:valAx>
        <c:axId val="3547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16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FB7-4CC5-4FA2-9505-0221BA08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6C3-1715-4020-88A6-E5D23322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101-0957-4135-9211-DBD743A6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5EF-5769-4F86-8B9B-926A2969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D0D-4E0D-426E-9C83-5B436BAA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5E0-BFC0-41FD-81F7-31CE7FF0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E56-6A32-4220-99CD-0FF7C939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3CD-5CC7-46F1-8BCA-E869656C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F02-EC74-4307-BA0C-A126ABB7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610-A078-4B78-BCE3-DAFBB58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A05-887E-41BF-A07F-F4734DAA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575-3CBA-431A-A09B-5B79EF66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FEC56-5989-44CA-A1F9-DA2B3E1BF9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