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44932"/>
        <c:axId val="44019030"/>
      </c:barChart>
      <c:catAx>
        <c:axId val="16644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19030"/>
        <c:crosses val="autoZero"/>
        <c:auto val="1"/>
        <c:lblAlgn val="ctr"/>
        <c:lblOffset val="100"/>
        <c:noMultiLvlLbl val="0"/>
      </c:catAx>
      <c:valAx>
        <c:axId val="44019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44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9B9-A7FB-4AC1-ACA6-C521F5A7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6B0-62A8-4571-AE18-D0E8EB67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03F-FFDB-4AFD-AC92-21415DDC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54E-1713-4199-82B6-FF623866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9E1-60BB-47A6-A13A-9AEBE46B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B1D-A256-4D04-BC4D-C847E98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DAE-7CCA-4C46-90DE-82135B4B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1E9-9D2F-4CC2-9D66-7BFEECA8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BDB-8705-420B-BB3D-35D34F9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371-E76B-45F6-80FF-589CE90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A43-3DD3-4F65-99AE-281D2B8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22A-734A-471A-BB28-3C50D2F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51E23-0E42-4C6A-8754-46B12786E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