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35276"/>
        <c:axId val="53959200"/>
      </c:barChart>
      <c:catAx>
        <c:axId val="68035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59200"/>
        <c:crosses val="autoZero"/>
        <c:auto val="1"/>
        <c:lblAlgn val="ctr"/>
        <c:lblOffset val="100"/>
        <c:noMultiLvlLbl val="0"/>
      </c:catAx>
      <c:valAx>
        <c:axId val="53959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35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DAF-4422-4B7D-8D17-30CA3BC1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320-02DD-4AAF-9E40-C575E2C4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7F0-8796-4A80-96B5-150F032F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B06-ABDB-4876-A4C7-AE0C9ADD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185-B3AE-4813-8F5E-E92B9903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D2E-3FFC-4A56-8C38-8C7FDE13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F83-C295-4E27-A8D8-F787E997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DB6-A90E-4894-847B-530B9AFB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B4D-E9DB-4E1D-BDBC-E6EE0643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495-A32A-4C47-8498-2AD1EB72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04A-2017-484E-9136-326BCDDF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EE0-DEB0-47C8-8A27-9E441327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B52CA-1900-4C3F-A8E0-2D08FE7068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