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76303"/>
        <c:axId val="19492307"/>
      </c:barChart>
      <c:catAx>
        <c:axId val="68176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92307"/>
        <c:crosses val="autoZero"/>
        <c:auto val="1"/>
        <c:lblAlgn val="ctr"/>
        <c:lblOffset val="100"/>
        <c:noMultiLvlLbl val="0"/>
      </c:catAx>
      <c:valAx>
        <c:axId val="19492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76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8E2-C86D-4A54-BAFA-F3B6216D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E08-8724-4674-95FD-FC531229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CFD-75E4-4F3D-A43C-9A3428E6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6B89-0560-439A-BD97-86565F02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948-FD1D-48C2-A4A7-E56EC6DE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647-92C5-48F8-97A8-85730271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3D1-FB6F-4B5D-AB5F-E7973D68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C5F-FE08-41D7-9E39-D1E1F0BD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7B8-83EB-4A48-BBBC-32E0A419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D1F-C4B8-4B5D-8269-3EBABFAD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CCB-B056-4E2C-8124-66A402B7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608-65F3-4603-8AAA-306AD53A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3A90D-F75C-40C2-A076-5202C305EB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