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9712"/>
        <c:axId val="65455754"/>
      </c:barChart>
      <c:catAx>
        <c:axId val="8969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55754"/>
        <c:crosses val="autoZero"/>
        <c:auto val="1"/>
        <c:lblAlgn val="ctr"/>
        <c:lblOffset val="100"/>
        <c:noMultiLvlLbl val="0"/>
      </c:catAx>
      <c:valAx>
        <c:axId val="65455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9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74F-73E8-4D5E-8826-A8783016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F44-52A0-4404-85BC-0C52FAD3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ED3-22DB-4E44-95EF-5E8AAD9D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224-131B-44A0-A9A1-E795900E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70C-81BD-430F-807E-DFB7583B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DCE-7D37-4153-8F5C-689486CD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F53-A77E-48E6-B9F3-FFB88774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581-8022-4100-8152-C8AF6FB5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069-D542-4CFD-A3A2-F13657AD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E50-33D3-42E5-8733-7C5B9EDA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0DB-B1AF-42D6-A74A-8FFA6DB6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E16-6062-43C4-A291-06350DF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E24C1-66B2-4DA3-A08F-F9FFE32E3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