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78436"/>
        <c:axId val="90023081"/>
      </c:barChart>
      <c:catAx>
        <c:axId val="45678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23081"/>
        <c:crosses val="autoZero"/>
        <c:auto val="1"/>
        <c:lblAlgn val="ctr"/>
        <c:lblOffset val="100"/>
        <c:noMultiLvlLbl val="0"/>
      </c:catAx>
      <c:valAx>
        <c:axId val="90023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78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B37-1F40-480B-9274-4F82D19C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738-135B-497F-BC69-DFEB6E38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EC5-FC2F-4A23-9428-A52F16A6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BBC-6EE9-4FA8-9CC2-A947B69B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1C0-FD18-4A83-8C85-95AB791B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86D-6E76-468D-8981-B9E7A70C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FCC-7B77-4930-A12E-C32A6F12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4D9-AFA3-46B7-B10B-6986A90A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EF4-DB66-47F0-8683-A9FE0795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1D2-F4BB-41CA-B538-DC26657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EF0-59DA-4DB0-B2A9-BD65308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CBB-A8BD-4C44-B575-62AB8F84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9A1BF-D134-4D76-A047-62601351D5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