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94074"/>
        <c:axId val="28509404"/>
      </c:barChart>
      <c:catAx>
        <c:axId val="72194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09404"/>
        <c:crosses val="autoZero"/>
        <c:auto val="1"/>
        <c:lblAlgn val="ctr"/>
        <c:lblOffset val="100"/>
        <c:noMultiLvlLbl val="0"/>
      </c:catAx>
      <c:valAx>
        <c:axId val="28509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94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C7C-C33B-4576-AD50-75595009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144-ED68-46EF-97A7-B737A820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486-A67B-4A3D-B448-712CED7B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E74-99DC-4117-93AC-7689DDBC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48B-C3D6-47FA-AC54-D47836FB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41C-04F9-4B95-8668-5DBBE5E6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2EB-23AC-4027-838C-93F4CBC3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6B3-2E42-4D2B-8645-18A231EA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2BA-2DB9-48AE-851D-EDF26573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B38-5968-402C-98FB-342BA474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1FF-3882-4D21-9D9D-AE3CE1E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2A2-5BEB-48DC-A241-371E4825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70F4A-1CAB-466B-82A8-A0274B7AA1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