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19050"/>
        <c:axId val="94687077"/>
      </c:barChart>
      <c:catAx>
        <c:axId val="25919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87077"/>
        <c:crosses val="autoZero"/>
        <c:auto val="1"/>
        <c:lblAlgn val="ctr"/>
        <c:lblOffset val="100"/>
        <c:noMultiLvlLbl val="0"/>
      </c:catAx>
      <c:valAx>
        <c:axId val="94687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19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D8E-4977-492C-B89F-AA547AD8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C67-95B3-4C49-9D10-B6FCE7C5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D07-0918-4FD2-8483-59854EED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852-F05F-405C-A23F-3BB22D76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55C-B837-41AB-872E-5B469D73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619-7EBE-4D78-9594-1B89EFEA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05B-D37C-46E8-ADFD-57BAFE8A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BB9-7419-4ACB-B193-4FCDF92D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4CE-5975-41DD-A077-1B527027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03C-957A-4039-A69E-EE33F94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A5A-BD05-4A9F-A36C-C662697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E0B-4CD7-43D7-B4A9-75F70B5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45B19-BC39-42BA-95E6-6782613F15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