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58399"/>
        <c:axId val="65973377"/>
      </c:barChart>
      <c:catAx>
        <c:axId val="34358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73377"/>
        <c:crosses val="autoZero"/>
        <c:auto val="1"/>
        <c:lblAlgn val="ctr"/>
        <c:lblOffset val="100"/>
        <c:noMultiLvlLbl val="0"/>
      </c:catAx>
      <c:valAx>
        <c:axId val="65973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58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51E-ADAC-4A3D-8400-F2EE70E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771-FC83-481B-B621-628A85D0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255-1E14-4C44-BDE9-F2C303AF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591-BAA0-405D-83F2-185F6B74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AF3-99D7-41FA-861A-6F25AC57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CF5-5DBA-438F-8C5A-8D2F9D8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1AE-4859-42DD-A15D-F60294C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570-A537-4A2E-93AD-28CE369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791-236A-48EA-8212-85582EFB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E48-C93E-4489-9C72-1D4F1B4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9B6-A3FC-45FA-A381-B29D843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AE3-F8C3-4BA5-9C68-0291E18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8E8B9-2479-47BE-8D90-7E2CB435B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