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94573"/>
        <c:axId val="3537171"/>
      </c:barChart>
      <c:catAx>
        <c:axId val="25394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171"/>
        <c:crosses val="autoZero"/>
        <c:auto val="1"/>
        <c:lblAlgn val="ctr"/>
        <c:lblOffset val="100"/>
        <c:noMultiLvlLbl val="0"/>
      </c:catAx>
      <c:valAx>
        <c:axId val="3537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94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E51-6918-4CDA-B4B5-5E749747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2C3-FAFB-4213-A6A9-6A1DCB63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46A-3DCF-4E46-A2FA-65F2397C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16C-2C59-4838-A9A7-28D6E0BC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503-C5EB-4F80-BA23-0D344D3B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285-EA92-41B2-A9E9-627D3D8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450-2589-40A4-BB81-3D790C16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570-F225-4ED8-98AF-C66BC7B6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6B0-2AFB-4C82-A0F6-2824FBE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19C-5E67-4FE5-A02F-F36C14D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610-081D-449E-92C1-85852C5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FD4-EB61-4BE4-9E05-35DCEB5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E28D-59AB-4A96-A19A-5ED555F18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