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29690"/>
        <c:axId val="49400262"/>
      </c:barChart>
      <c:catAx>
        <c:axId val="36329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00262"/>
        <c:crosses val="autoZero"/>
        <c:auto val="1"/>
        <c:lblAlgn val="ctr"/>
        <c:lblOffset val="100"/>
        <c:noMultiLvlLbl val="0"/>
      </c:catAx>
      <c:valAx>
        <c:axId val="49400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29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835-8685-4583-A444-DB731A9E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A72-9EBE-463B-BFBA-6EAC374F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046-6477-483E-904C-A1C36DD7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82C-6F86-4C61-B074-4CBE6AFF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FE9-6475-4FE8-8587-ED6EBAB5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CBF-9B15-4017-B683-A37CDC4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E4F-0E7A-452F-BAB6-87FFD33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B72-A060-484F-8DFC-058D3AE0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316-BB8B-4A7D-92D3-9DB43FC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BE1-88BE-4B3C-B633-B910C76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0FB-A042-4666-AF59-7106B60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14D-07A3-4F8D-895B-6DD70CD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32A00-2A34-4283-AB94-D4A602DEA5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