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56248"/>
        <c:axId val="21892765"/>
      </c:barChart>
      <c:catAx>
        <c:axId val="13656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92765"/>
        <c:crosses val="autoZero"/>
        <c:auto val="1"/>
        <c:lblAlgn val="ctr"/>
        <c:lblOffset val="100"/>
        <c:noMultiLvlLbl val="0"/>
      </c:catAx>
      <c:valAx>
        <c:axId val="21892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56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B0E-A13B-4CDC-BE65-570F5BB1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1A1-8ED4-4295-96A1-D263085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DBA-1F5F-48AF-9D70-8E0A811B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FFD-BED0-4AB1-809B-F9B9965D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D5F-DCE1-44AC-A4AC-F1F1A0C2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78C-C094-4DB5-AA03-68541BD8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FF2-5315-44B8-845E-272CFCA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ED2-A955-4F47-A0A6-5D00E3B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991-FC53-4DF6-A619-687A3DF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C00-5BD8-4B28-B348-190AC83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3C6-3A30-4888-BA5D-137E403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DC3-3585-4669-B1E5-70536ED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E315B-8560-4AA4-9050-C9973AC622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