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29629"/>
        <c:axId val="33377618"/>
      </c:barChart>
      <c:catAx>
        <c:axId val="71296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77618"/>
        <c:crosses val="autoZero"/>
        <c:auto val="1"/>
        <c:lblAlgn val="ctr"/>
        <c:lblOffset val="100"/>
        <c:noMultiLvlLbl val="0"/>
      </c:catAx>
      <c:valAx>
        <c:axId val="333776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296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5D46-F14C-47FF-B9FE-7A59A20AB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BA8C-D91F-460A-81C2-F52D74E0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AC04-9C8F-44C1-867B-C10DC486E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B4CA-4FC5-4497-BF4D-FBB62B79D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23E6-63BA-4BC5-828B-F0CCCDB4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37B6-106B-40B6-B67E-764AFE36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2C98-C73B-43B3-B634-314D218A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71C0-36C0-459D-8512-A38A03C4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B953-DFB7-4687-B6DA-8981C824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8A8A-FE66-47E7-8055-A070A20A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9BE1-0621-457D-BF13-8D6BEAE8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E25F-C3DE-4EEE-939E-2581B395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2CC3C-E716-4726-A924-C30126EE89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