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35547"/>
        <c:axId val="29764394"/>
      </c:barChart>
      <c:catAx>
        <c:axId val="81035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4394"/>
        <c:crosses val="autoZero"/>
        <c:auto val="1"/>
        <c:lblAlgn val="ctr"/>
        <c:lblOffset val="100"/>
        <c:noMultiLvlLbl val="0"/>
      </c:catAx>
      <c:valAx>
        <c:axId val="29764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35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6A9-9E04-4E36-92B3-1F5ABE0D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CD5-E279-404B-97D6-26FFDA4B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8FD-4EC5-4007-9D66-C853BA61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CC5-D126-4CCF-8AD5-DA3A377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FF3-3D76-470E-908E-DA2B65FD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977-E778-4303-89D9-2961569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004-37B2-49D3-B19E-2A312416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9CE-EAAB-4B53-9648-191FFA63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A10-494A-465A-BFC0-A058ACD8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450-EC08-4364-8355-D5654F6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1B3-EDA7-4CFF-8208-B05FF26E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5DB-A35A-4101-80CC-C6651E1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66354-36AC-4751-8BE3-CB53E6B2F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